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897335"/>
        <c:axId val="34083740"/>
      </c:barChart>
      <c:catAx>
        <c:axId val="87897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83740"/>
        <c:crosses val="autoZero"/>
        <c:auto val="1"/>
        <c:lblAlgn val="ctr"/>
        <c:lblOffset val="100"/>
        <c:noMultiLvlLbl val="0"/>
      </c:catAx>
      <c:valAx>
        <c:axId val="340837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97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8D0-28F5-4D6F-8613-4D79CD22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1E1-0B1F-4B9B-8BEB-AE63C557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E83-A498-43CF-B17F-4E85BBC9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F9C-6F2A-46B1-8492-5436D585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8B7-B6E2-45E7-9887-1EB5836C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F04B-6C07-4AC8-BD5F-BD28D92C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426-7D7C-4202-B40B-C35EB40A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097-C634-49C0-994E-188B1535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C23E-C086-4FEF-8AAF-3CEB3EB8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CBA0-EB19-4F45-A5AD-47594622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682-B07E-4AB1-851E-4701C1B1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CAA8-65C9-4C73-BC7A-8A53E111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384C0-7F5D-4283-A56E-82B1D13317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