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324943"/>
        <c:axId val="96928318"/>
      </c:barChart>
      <c:catAx>
        <c:axId val="613249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928318"/>
        <c:crosses val="autoZero"/>
        <c:auto val="1"/>
        <c:lblAlgn val="ctr"/>
        <c:lblOffset val="100"/>
        <c:noMultiLvlLbl val="0"/>
      </c:catAx>
      <c:valAx>
        <c:axId val="969283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3249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DB72-E7A3-4D53-AD90-583CDF5FC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A3C1-67B1-4665-96DB-2B0799A23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12FB-EA85-43CF-BA2E-CA52793CB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A989-F6CC-4138-8A11-4BCC92245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88E0-AD74-4AA8-9E6B-8E341515C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EDF1-9A2E-4083-B2AC-E8DEA1BB2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43B8-4A7E-4980-B4C4-EE0CB68B9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2B1C-52EB-4D7F-9A4E-88F772FD8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3622-0C72-48E4-AA18-96F7BAB9D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9A13-CE75-42BB-BC11-4B702ECD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90F5-2E41-4DA4-8229-8DAB148E6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63DE-E7AE-423B-9BA6-CB459FE6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0063C8-0CDD-42DA-AD56-C22E1D17B77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