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07679"/>
        <c:axId val="14401501"/>
      </c:barChart>
      <c:catAx>
        <c:axId val="198076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01501"/>
        <c:crosses val="autoZero"/>
        <c:auto val="1"/>
        <c:lblAlgn val="ctr"/>
        <c:lblOffset val="100"/>
        <c:noMultiLvlLbl val="0"/>
      </c:catAx>
      <c:valAx>
        <c:axId val="144015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076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B75C-AB68-4A09-AE78-7290EBC0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A18-9DD4-40E3-ADC9-F7B3F1EE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C169-0489-4DCF-A682-4745F7B2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0E21-7861-4E56-A737-4E65314D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ED68-4913-4EC1-A054-C1D39F6C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44C-0AA4-43BD-B3A3-A19324A4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5731-26D0-4597-94CF-C49C0D2F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37AE-11D9-4A7F-B881-D596DE0D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78A4-0503-4C1B-BA55-1891B2FF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3A47-8233-4684-A337-74B04BCF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EC8-6158-4B20-8E66-4C8881F0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3625-D60A-45B9-8C92-B934D6D4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505E2-D0DA-4045-B3EE-3FE50DCC6C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