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80261232"/>
        <c:axId val="83595975"/>
      </c:barChart>
      <c:catAx>
        <c:axId val="80261232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3595975"/>
        <c:crosses val="autoZero"/>
        <c:auto val="1"/>
        <c:lblAlgn val="ctr"/>
        <c:lblOffset val="100"/>
        <c:noMultiLvlLbl val="0"/>
      </c:catAx>
      <c:valAx>
        <c:axId val="83595975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0261232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74C2E8-6712-403B-AFD7-C78299D44B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6EEC33-2AFE-4E04-9C59-2736A3308C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D98823-4697-446D-B7F0-E22045BF741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4DD7A1-76CF-4DA3-B716-A227C361CAD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195EE7-A933-4272-AF9D-F942AE1F36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04216C-08E4-492B-A750-6315A0394E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E92D35-A46A-451B-BF2D-86F353A29C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3C639-631C-4ADA-B1CB-1C564495BF2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DDBDB6-6BA5-47F3-8079-A12CC2F0ECC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A7517A-F49B-4DBD-AC6B-53E9D6ED32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2D3E15-3881-4C21-A668-44A9B4E8AD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01D27D-377E-4940-98F4-F13334A5F22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E5C6B0E-2826-4641-9377-4D5FBBCED03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